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7E8F-1CE9-48C2-9F56-CD86F841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102C-CF1B-48FE-8A93-6452A7D8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1889-6C5F-4C66-B6DD-A8C8CC12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BB00-85D8-41F1-B0C2-7079427B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9A85-7BAF-470D-AAC8-639DC3E0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CF14-B7EE-4E77-A38B-97ADBD40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8751-4057-4FD0-8AF8-B414403E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4450-4959-41E9-B8A5-1B24B624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D8C0-55AC-4242-9EB9-FC3C262A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737A-BF5E-4948-A847-6C6894EE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E8AD-8288-4E91-8C95-30559423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1906-9673-44E3-B35D-444A9722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DD88-6FAB-471C-AACC-021808898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cycling G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lankety Bl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ere are __________ players in a basketball t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cano wrote a song about the painter 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____________said “I think, therefore I am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e capital of Honduras is 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e 7 dwarves were __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ce 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6127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Alfred Hitchcock won _________ osc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Queen Elizabeth has got __________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Ann Boleyn had __________ fi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There are __________ dots on two d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________ months have got 31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. C in roman numerals represents 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332000" y="1341360"/>
          <a:ext cx="6840360" cy="4751640"/>
        </p:xfrm>
        <a:graphic>
          <a:graphicData uri="http://schemas.openxmlformats.org/drawingml/2006/table">
            <a:tbl>
              <a:tblPr/>
              <a:tblGrid>
                <a:gridCol w="1584360"/>
                <a:gridCol w="1871640"/>
                <a:gridCol w="1728720"/>
                <a:gridCol w="165564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ana la lo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ndu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aj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ar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s aba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n nume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t the 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hinese Whis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hate…….getting up before 8.45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love………….drinking my first cup of tea in the morning on the terr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remember…………travelling by plane for the firs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try to………….be jolly at all ti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need to………….stop worrying about my next 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09:23:34Z</dcterms:created>
  <dc:creator>HBeardsworth</dc:creator>
  <dc:description/>
  <dc:language>en-US</dc:language>
  <cp:lastModifiedBy>HBeardsworth</cp:lastModifiedBy>
  <dcterms:modified xsi:type="dcterms:W3CDTF">2011-05-24T10:46:52Z</dcterms:modified>
  <cp:revision>3</cp:revision>
  <dc:subject/>
  <dc:title>Recycling Games</dc:title>
</cp:coreProperties>
</file>